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4FB-A146-4E27-8184-7002CC22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623-14A9-4063-9C58-47A41F9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34A-3680-4DE3-A1F5-7A126127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1E9-4830-417F-BA9A-B2617619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AC28-AB41-4E70-96E8-2D9F0720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8C58-E5E1-4A05-9359-D83B07B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9C7D-6207-4F6F-835A-03108CE7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7CD7-6671-443D-B1DD-009198B3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8FB7-EDAB-453A-9715-2D29BEE5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EC34-FE6F-4756-844F-ACB3B5C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4FEF-2417-4FE8-A5F6-143C5D7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CF6-A537-4900-9923-DA2A5B63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2EFA-2528-409E-9CF0-BA43E71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3015-D389-4A55-8E4C-A7A1F53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D78F-2C11-4A7A-BCC9-B00C0CCD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5621-9AA4-4D94-BC4B-57B10491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A8BB-C398-46DD-926D-9DE60000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251-A90B-4FBB-9B91-DAE2946C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10B-E571-4C57-A0AF-B148BFB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B40-AAF8-4CE1-9A1B-9FABAFFE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7B4-3784-4542-83B0-995ED80D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202-7878-4FD4-9669-385C0E0A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71A-5488-4FD8-A513-7A7C005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A26-984F-4909-9CEE-6116B75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3CF4-A3F4-4E8F-B2C5-A74F702CD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492C-4327-4681-A43E-C94770A37C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Image:Fokker_Dr1_on_the_ground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en.wikipedia.org/wiki/Image:Little_Willie_d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en.wikipedia.org/wiki/Image:FT-17-argonne-1918.gif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6/WW1_TitlePicture_For_Wikipedia_Articl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Image:York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c/cc/Shellshock2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a/Cheshire_Regiment_trench_Somme_191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Image:Vickers_IWW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en.wikipedia.org/wiki/Image:Australian_infantry_small_box_respirators_Ypres_1917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9.3:  A Bloody Conflic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400" y="3123720"/>
            <a:ext cx="45705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86950"/>
                </a:solidFill>
                <a:latin typeface="Times New Roman"/>
              </a:rPr>
              <a:t>The United States &amp; use of technology contributes to Allied victor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Mechanized warfare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-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pons that rely on gasoline and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ks and 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The Fokker triplane belonging to Manfred von Richthofen (the &quot;Red Baron&quot;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4419720"/>
            <a:ext cx="3429000" cy="21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Little Willie the first tank prototype, had riveted armour, flat caterpillar tracks, and no main gun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3886200"/>
            <a:ext cx="3429000" cy="2193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Renault FT-17 tanks being operated by the US Army in France. Light tanks with a crew of only two, these were mass-produced during World War I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1752480"/>
            <a:ext cx="34290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Image:WW1 TitlePicture For Wikipedia Artic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04920"/>
            <a:ext cx="4826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9712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Zeppelins:  Air Ballo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160" y="-31869000"/>
            <a:ext cx="8961480" cy="705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Airship"/>
          <p:cNvPicPr/>
          <p:nvPr/>
        </p:nvPicPr>
        <p:blipFill>
          <a:blip r:embed="rId2"/>
          <a:stretch/>
        </p:blipFill>
        <p:spPr>
          <a:xfrm>
            <a:off x="2133720" y="1752480"/>
            <a:ext cx="6095880" cy="4402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2160" y="38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og Fights”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2160" y="-31869000"/>
            <a:ext cx="8961480" cy="70597800"/>
            <a:chOff x="92160" y="-31869000"/>
            <a:chExt cx="8961480" cy="70597800"/>
          </a:xfrm>
        </p:grpSpPr>
        <p:sp>
          <p:nvSpPr>
            <p:cNvPr id="116" name=""/>
            <p:cNvSpPr/>
            <p:nvPr/>
          </p:nvSpPr>
          <p:spPr>
            <a:xfrm>
              <a:off x="92160" y="-31869000"/>
              <a:ext cx="8961480" cy="705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2160" y="-31869000"/>
              <a:ext cx="4299120" cy="51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-152280" y="-32004000"/>
            <a:ext cx="8961480" cy="70597800"/>
            <a:chOff x="-152280" y="-32004000"/>
            <a:chExt cx="8961480" cy="70597800"/>
          </a:xfrm>
        </p:grpSpPr>
        <p:sp>
          <p:nvSpPr>
            <p:cNvPr id="119" name=""/>
            <p:cNvSpPr/>
            <p:nvPr/>
          </p:nvSpPr>
          <p:spPr>
            <a:xfrm>
              <a:off x="-152280" y="-32004000"/>
              <a:ext cx="8961480" cy="705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152280" y="-32004000"/>
              <a:ext cx="4299120" cy="51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89080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dogfight" descr="Dogfight"/>
          <p:cNvPicPr/>
          <p:nvPr/>
        </p:nvPicPr>
        <p:blipFill>
          <a:blip r:embed="rId1"/>
          <a:stretch/>
        </p:blipFill>
        <p:spPr>
          <a:xfrm>
            <a:off x="2895480" y="1523880"/>
            <a:ext cx="48373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reaking Germany’s Block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oy system helped shipping losses reduced by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Convoy System"/>
          <p:cNvPicPr/>
          <p:nvPr/>
        </p:nvPicPr>
        <p:blipFill>
          <a:blip r:embed="rId1"/>
          <a:stretch/>
        </p:blipFill>
        <p:spPr>
          <a:xfrm>
            <a:off x="1981080" y="2666880"/>
            <a:ext cx="6058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ussian R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ar Nicholas II steps down from this th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lshevik Party, led by Vladimir Lenin, est. a Communist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sm – a one party gov’t, which controls everything within gov’t and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 deal w/Germany giving up some lands = Brest-Litovsk Treaty (19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mericans Figh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J. Pers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American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ght together not as re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pump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a strong voice at the peace table/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5320" y="-12854160"/>
            <a:ext cx="6813360" cy="32565960"/>
            <a:chOff x="1165320" y="-12854160"/>
            <a:chExt cx="6813360" cy="32565960"/>
          </a:xfrm>
        </p:grpSpPr>
        <p:sp>
          <p:nvSpPr>
            <p:cNvPr id="135" name=""/>
            <p:cNvSpPr/>
            <p:nvPr/>
          </p:nvSpPr>
          <p:spPr>
            <a:xfrm>
              <a:off x="1165320" y="-12854160"/>
              <a:ext cx="6813360" cy="325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5320" y="-12854160"/>
              <a:ext cx="6813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34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165320" y="-12854160"/>
            <a:ext cx="6813360" cy="32565960"/>
            <a:chOff x="1165320" y="-12854160"/>
            <a:chExt cx="6813360" cy="32565960"/>
          </a:xfrm>
        </p:grpSpPr>
        <p:sp>
          <p:nvSpPr>
            <p:cNvPr id="138" name=""/>
            <p:cNvSpPr/>
            <p:nvPr/>
          </p:nvSpPr>
          <p:spPr>
            <a:xfrm>
              <a:off x="1165320" y="-12854160"/>
              <a:ext cx="6813360" cy="325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65320" y="-12854160"/>
              <a:ext cx="6813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36162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Conscientious objec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ho opposes warfare on moral 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1752480"/>
            <a:ext cx="31384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edical Ca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ute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ll shock – complete emotional colla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Image:Shellshock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533520"/>
            <a:ext cx="3962520" cy="3057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external image wwi13.jpg"/>
          <p:cNvPicPr/>
          <p:nvPr/>
        </p:nvPicPr>
        <p:blipFill>
          <a:blip r:embed="rId3"/>
          <a:stretch/>
        </p:blipFill>
        <p:spPr>
          <a:xfrm>
            <a:off x="4648320" y="3657600"/>
            <a:ext cx="2286000" cy="291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external image wwi13_2.jpg"/>
          <p:cNvPicPr/>
          <p:nvPr/>
        </p:nvPicPr>
        <p:blipFill>
          <a:blip r:embed="rId4"/>
          <a:stretch/>
        </p:blipFill>
        <p:spPr>
          <a:xfrm>
            <a:off x="6858000" y="3657600"/>
            <a:ext cx="228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rench Foo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3189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51400" y="3360600"/>
            <a:ext cx="2892600" cy="3497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external image ww1b-091b1.jpg"/>
          <p:cNvPicPr/>
          <p:nvPr/>
        </p:nvPicPr>
        <p:blipFill>
          <a:blip r:embed="rId3"/>
          <a:stretch/>
        </p:blipFill>
        <p:spPr>
          <a:xfrm>
            <a:off x="1371600" y="3211560"/>
            <a:ext cx="36576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6218280" cy="506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Western Fro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ermany Collaps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lors and marines refused to ma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ser abd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ally exhau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/11/11/1918 Germany agrees to a cease-f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40080" y="1886040"/>
            <a:ext cx="553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886040"/>
            <a:ext cx="5803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inal Number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ed 4 y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30 countries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26 million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20 million w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0 million refug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$350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suffers largest casualties @ 9.3 m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States suffers the least @ 325,2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ridge to Fra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ad to build ships to transport men, munitions and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pyard workers/dra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05160" y="9907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bricated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scated private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vin York eventually changes his m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746748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Image:Cheshire Regiment trench Somme 19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152360"/>
            <a:ext cx="7476840" cy="5705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rench Warfa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Image:German stormtroops training Sedan May 1917 3.jpg"/>
          <p:cNvPicPr/>
          <p:nvPr/>
        </p:nvPicPr>
        <p:blipFill>
          <a:blip r:embed="rId1"/>
          <a:stretch/>
        </p:blipFill>
        <p:spPr>
          <a:xfrm>
            <a:off x="1295280" y="1295280"/>
            <a:ext cx="7620120" cy="5210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No man’s land”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land between opposing trenche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Image:Aerial view Loos-Hulluch trench system July 1917.jpg"/>
          <p:cNvPicPr/>
          <p:nvPr/>
        </p:nvPicPr>
        <p:blipFill>
          <a:blip r:embed="rId1"/>
          <a:stretch/>
        </p:blipFill>
        <p:spPr>
          <a:xfrm>
            <a:off x="2038320" y="576360"/>
            <a:ext cx="50673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Image:Lancashire Fusiliers trench Beaumont Hamel 1916.jpg"/>
          <p:cNvPicPr/>
          <p:nvPr/>
        </p:nvPicPr>
        <p:blipFill>
          <a:blip r:embed="rId1"/>
          <a:stretch/>
        </p:blipFill>
        <p:spPr>
          <a:xfrm>
            <a:off x="1143000" y="838080"/>
            <a:ext cx="70484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Image:Stretcher bearers Passchendaele August 1917.jpg"/>
          <p:cNvPicPr/>
          <p:nvPr/>
        </p:nvPicPr>
        <p:blipFill>
          <a:blip r:embed="rId1"/>
          <a:stretch/>
        </p:blipFill>
        <p:spPr>
          <a:xfrm>
            <a:off x="1447920" y="609480"/>
            <a:ext cx="674352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All Quiet on the Western Fro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031760"/>
            <a:ext cx="79246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956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ar and Technolog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g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warfare/gas m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The machine gun was one of the decisive technologies during World War I. Picture: British Vickers machine gun crew on the Western Fro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971800"/>
            <a:ext cx="3429000" cy="235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Australian infantry with gas masks, Ypres, 1917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2971800"/>
            <a:ext cx="2673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</cp:lastModifiedBy>
  <dcterms:modified xsi:type="dcterms:W3CDTF">2011-02-14T01:19:01Z</dcterms:modified>
  <cp:revision>15</cp:revision>
  <dc:subject/>
  <dc:title>PowerPoint Presentation</dc:title>
</cp:coreProperties>
</file>